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288588" cy="6858000"/>
  <p:notesSz cx="700246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0AA-3954-4491-905B-3848CDC3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99880" y="3826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149-50A2-4685-94EA-FBD3C74B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80800" y="16765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99880" y="3826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80800" y="3826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F13-3E45-4E4A-AA0B-933A563A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56200" y="16765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12520" y="16765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99880" y="3826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56200" y="3826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12520" y="3826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F1E-4201-4984-9128-B5137B32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A909-20E2-44F0-9CD6-627AD659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99880" y="16765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65AF-E9F6-4D2E-B367-FE3CF4D6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2100-4271-40D9-BB63-C6167150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8080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5F09-FB53-4615-B29E-25E37264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7C8B-2271-46D3-9FF9-D351FB28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99880" y="30456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B68B-4D54-48BB-BCD9-05B0F66D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99880" y="3826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C5E8-3E5E-42DF-86F3-C09C511F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99880" y="16765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FBE-2511-44BB-9CBE-7FD2CD06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0800" y="16765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80800" y="3826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F1BF-4783-4BB6-A555-54CBE853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80800" y="16765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99880" y="3826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EC9C-A08A-490D-9C46-73DF2EE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99880" y="3826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BD8B-FC64-4CBE-806C-5E7919F4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80800" y="16765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99880" y="3826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680800" y="3826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DD4E-EC57-4E87-B784-633E75F3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56200" y="16765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112520" y="16765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99880" y="3826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156200" y="3826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112520" y="3826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B002-D043-4446-AD75-345143FD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A51-FCBC-410C-8727-F3A87FDB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8080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3B8-7C0C-49D3-8BFC-0AAAD4BE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EF5-AE4B-4257-8B4C-16ACE18F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99880" y="30456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52B-5FAB-4924-8972-1FAE656A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8080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99880" y="3826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B2B-E13B-46A3-82D1-EA677FDF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80800" y="16765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80800" y="3826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80C-A285-4444-A432-2C1F31B3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99880" y="16765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6765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99880" y="3826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61E-393B-4F18-9FF6-208FFAB8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2600" y="1836720"/>
            <a:ext cx="255276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41360" y="353880"/>
            <a:ext cx="25495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847960" y="1270080"/>
            <a:ext cx="4129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4797360"/>
            <a:ext cx="384480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56200" y="4425840"/>
            <a:ext cx="25462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3280" y="487440"/>
            <a:ext cx="329400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40600" y="2556000"/>
            <a:ext cx="225900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99880" y="16765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998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94308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800840" y="632448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2769-9700-454E-98CB-FB9944178873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2600" y="1836720"/>
            <a:ext cx="255276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41360" y="353880"/>
            <a:ext cx="25495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47960" y="1270080"/>
            <a:ext cx="4129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" y="4797360"/>
            <a:ext cx="384480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56200" y="4425840"/>
            <a:ext cx="25462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53280" y="487440"/>
            <a:ext cx="329400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0600" y="2556000"/>
            <a:ext cx="225900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4582080" y="-1067760"/>
            <a:ext cx="1722600" cy="385776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8556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128556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402876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8865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8B20-28D7-4595-8B54-6ED81A5965DB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3048120" y="3657600"/>
            <a:ext cx="4647600" cy="2819520"/>
            <a:chOff x="3048120" y="3657600"/>
            <a:chExt cx="4647600" cy="2819520"/>
          </a:xfrm>
        </p:grpSpPr>
        <p:grpSp>
          <p:nvGrpSpPr>
            <p:cNvPr id="98" name=""/>
            <p:cNvGrpSpPr/>
            <p:nvPr/>
          </p:nvGrpSpPr>
          <p:grpSpPr>
            <a:xfrm>
              <a:off x="3048120" y="3657600"/>
              <a:ext cx="4647600" cy="1661040"/>
              <a:chOff x="3048120" y="3657600"/>
              <a:chExt cx="4647600" cy="1661040"/>
            </a:xfrm>
          </p:grpSpPr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3657600"/>
                <a:ext cx="2436840" cy="166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4960" y="3657600"/>
                <a:ext cx="2210760" cy="1661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3048120" y="5312160"/>
              <a:ext cx="244548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5484960" y="5312160"/>
              <a:ext cx="2210760" cy="11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100584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99"/>
                </a:solidFill>
                <a:latin typeface="Arial"/>
              </a:rPr>
              <a:t>INTEGRACIÓN MONETARIA, </a:t>
            </a:r>
            <a:r>
              <a:rPr b="1" i="1" lang="en-US" sz="4800" spc="-1" strike="noStrike">
                <a:solidFill>
                  <a:srgbClr val="ffff99"/>
                </a:solidFill>
                <a:latin typeface="Arial"/>
              </a:rPr>
              <a:t>RESULTADOS Y PERSPECTIVAS ECONÓMICAS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Estabilidad de preci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57920" y="3362400"/>
            <a:ext cx="1336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75000"/>
              </a:lnSpc>
              <a:spcBef>
                <a:spcPts val="187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5880" y="4765680"/>
            <a:ext cx="13348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75000"/>
              </a:lnSpc>
              <a:spcBef>
                <a:spcPts val="187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37120" y="2790720"/>
          <a:ext cx="493884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7120" y="2790720"/>
                    <a:ext cx="493884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400800" y="1905840"/>
            <a:ext cx="2590920" cy="49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Tipo de Camb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74760" y="2790720"/>
          <a:ext cx="4940280" cy="354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760" y="2790720"/>
                    <a:ext cx="494028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828800" y="2007360"/>
            <a:ext cx="1778040" cy="49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Infl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Base exportadora diversificada…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981080"/>
            <a:ext cx="2979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68000"/>
          </a:bodyPr>
          <a:p>
            <a:pPr algn="ctr">
              <a:lnSpc>
                <a:spcPct val="75000"/>
              </a:lnSpc>
              <a:spcBef>
                <a:spcPts val="275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Arial"/>
              </a:rPr>
              <a:t>Exportaciones por producto, 200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0600" y="2638440"/>
          <a:ext cx="488628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2638440"/>
                    <a:ext cx="48862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400720" y="2666880"/>
          <a:ext cx="4886280" cy="335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0720" y="2666880"/>
                    <a:ext cx="48862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400800" y="1752480"/>
            <a:ext cx="2978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75000"/>
              </a:lnSpc>
              <a:spcBef>
                <a:spcPts val="275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Arial"/>
              </a:rPr>
              <a:t>PIB sectorial, 200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71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¿Qué es la Integración Monetaria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16765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Fija permanentemente la tasa de cambio entre el colón y el dólar a 8.75 colones por dól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a curso legal al dól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 dólar se establece como unidad de cuenta del sistema financier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¿Qué es la Integración Monetaria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143000"/>
            <a:ext cx="8001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tarán denominados en dólar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pósitos y créditos del sistema financier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ensi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as las operaciones y registros contables del sistema financier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os precios de los bienes se podrán expresar tanto en colones, como en dóla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or un período de 6 meses, los precios se deberán expresar en ambas moned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3049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¿Qué es la Integración Monetaria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60020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54160" indent="-25416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 colón sigue siendo moneda de curso leg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 Banco Central canjea los colones por dólares por medio del sistema bancario a requerimiento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irculan los billetes y monedas de dól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os bancos no pueden cobrar comisión por el canje entre colones y dólares en efectiv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contabilidad puede ser llevada en colones o dóla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20600" indent="-2062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71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¿Qué es la Integración Monetaria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905120"/>
            <a:ext cx="8762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formas a Ley de Bancos para introducir regulación prudencial de liquide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imina crédito del Banco Central al sistema financiero (Ya existía prohibición de crédito al sector privado y público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imina emisión de especies monetarias por Banco Centr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imina facultades de restricciones cambiarias al Banco Centr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480060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no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800" spc="-1" strike="noStrike">
                <a:solidFill>
                  <a:srgbClr val="ebd189"/>
                </a:solidFill>
                <a:latin typeface="Arial"/>
              </a:rPr>
              <a:t>EVALUACIÓN LEY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685800" indent="-685800"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800" spc="-1" strike="noStrike">
                <a:solidFill>
                  <a:srgbClr val="ebd189"/>
                </a:solidFill>
                <a:latin typeface="Arial"/>
              </a:rPr>
              <a:t>DE INTEGRACIÓ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685800" indent="-685800"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8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s-ES_tradnl" sz="4800" spc="-1" strike="noStrike">
                <a:solidFill>
                  <a:srgbClr val="ebd189"/>
                </a:solidFill>
                <a:latin typeface="Arial"/>
              </a:rPr>
              <a:t>MONETARIA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685800" indent="-685800"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1143000"/>
            <a:ext cx="8636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bd189"/>
                </a:solidFill>
                <a:latin typeface="Arial"/>
              </a:rPr>
              <a:t>Hasta agosto, 40% del efectivo en circulación es dólar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38280" y="838080"/>
          <a:ext cx="908676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838080"/>
                    <a:ext cx="908676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809640"/>
            <a:ext cx="8636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Disminución tasas de interés activas en más de 4%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76520" y="1486080"/>
            <a:ext cx="70102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457200" y="1828800"/>
          <a:ext cx="9182160" cy="459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918216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143000" y="762120"/>
            <a:ext cx="8077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ebd189"/>
                </a:solidFill>
                <a:latin typeface="Arial"/>
              </a:rPr>
              <a:t>Aumento anual $208 millones en crédito directo del exterior</a:t>
            </a:r>
            <a:br>
              <a:rPr sz="4300"/>
            </a:b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1676520"/>
            <a:ext cx="853416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Arial"/>
              </a:rPr>
              <a:t>I.   Evolución económica 90’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Arial"/>
              </a:rPr>
              <a:t>II.   Integración monetar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Arial"/>
              </a:rPr>
              <a:t>III.  Resultado Ley de Integració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es-ES_tradnl" sz="3600" spc="-1" strike="noStrike">
                <a:solidFill>
                  <a:srgbClr val="eaeaea"/>
                </a:solidFill>
                <a:latin typeface="Arial"/>
              </a:rPr>
              <a:t>y benefici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Arial"/>
              </a:rPr>
              <a:t>IV.  Resultados económicos recient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Arial"/>
              </a:rPr>
              <a:t>V.   Entorno económic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Arial"/>
              </a:rPr>
              <a:t>VI.  Conclusion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80880"/>
            <a:ext cx="86360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900" spc="-1" strike="noStrike">
                <a:solidFill>
                  <a:srgbClr val="ebd189"/>
                </a:solidFill>
                <a:latin typeface="Arial"/>
              </a:rPr>
              <a:t>CONTENIDO</a:t>
            </a:r>
            <a:endParaRPr b="0" lang="en-US" sz="5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419720" y="1143000"/>
            <a:ext cx="1958760" cy="549360"/>
          </a:xfrm>
          <a:prstGeom prst="flowChartProcess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</a:rPr>
              <a:t>Integración Monetar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209680"/>
            <a:ext cx="2514600" cy="457200"/>
          </a:xfrm>
          <a:prstGeom prst="flowChartProcess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</a:rPr>
              <a:t>Disminución tasas de interé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133720"/>
            <a:ext cx="2133720" cy="4572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Arial"/>
              </a:rPr>
              <a:t>Estabilidad de la Moned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2209680"/>
            <a:ext cx="2194200" cy="549360"/>
          </a:xfrm>
          <a:prstGeom prst="flowChartProcess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</a:rPr>
              <a:t>Mejores condiciones para inverti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167652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1905120"/>
            <a:ext cx="0" cy="274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1905120"/>
            <a:ext cx="0" cy="274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3276720"/>
            <a:ext cx="1517760" cy="45720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Sector Empresari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920" y="3276720"/>
            <a:ext cx="1076400" cy="45720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SV, BFA, BH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276720"/>
            <a:ext cx="979560" cy="457200"/>
          </a:xfrm>
          <a:prstGeom prst="flowChartProcess">
            <a:avLst/>
          </a:prstGeom>
          <a:solidFill>
            <a:srgbClr val="ffad5b"/>
          </a:solidFill>
          <a:ln w="936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3276720"/>
            <a:ext cx="1908000" cy="457200"/>
          </a:xfrm>
          <a:prstGeom prst="flowChartProcess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tabilidad de salarios y ahorr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3200400"/>
            <a:ext cx="1523880" cy="4572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Generación de Emple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400" y="3886200"/>
            <a:ext cx="1387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105,000 beneficiados FSV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20,000 beneficiados BFA, BH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3886200"/>
            <a:ext cx="191628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Fuerte competencia por el sector corporativo salvadoreño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Aumento de US$</a:t>
            </a:r>
            <a:r>
              <a:rPr b="0" lang="es-MX" sz="1400" spc="-1" strike="noStrike">
                <a:solidFill>
                  <a:srgbClr val="eaeaea"/>
                </a:solidFill>
                <a:latin typeface="Arial"/>
              </a:rPr>
              <a:t>200</a:t>
            </a: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 millones en crédito directo del exterior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962520"/>
            <a:ext cx="1935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Menores tasas de interés en créditos nuevos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Aumento en la demanda de crédito en el segundo trimestre: 89,862 créditos nuevos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3962520"/>
            <a:ext cx="20210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Estabilidad a pesar de bajos precios del café y dos terremotos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Otros países ha devaluado sus monedas:  3</a:t>
            </a:r>
            <a:r>
              <a:rPr b="0" lang="es-MX" sz="1400" spc="-1" strike="noStrike">
                <a:solidFill>
                  <a:srgbClr val="eaeaea"/>
                </a:solidFill>
                <a:latin typeface="Arial"/>
              </a:rPr>
              <a:t>9</a:t>
            </a: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% en Brasil, </a:t>
            </a:r>
            <a:r>
              <a:rPr b="0" lang="es-MX" sz="1400" spc="-1" strike="noStrike">
                <a:solidFill>
                  <a:srgbClr val="eaeaea"/>
                </a:solidFill>
                <a:latin typeface="Arial"/>
              </a:rPr>
              <a:t>22</a:t>
            </a: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% en Chile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3886200"/>
            <a:ext cx="26208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Inversión en maquila expandiéndose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Aprovechamiento TLC’s e ICC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Reducción de costo de hacer negoci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</a:rPr>
              <a:t>Eliminación riesgo cambiari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eaeaea"/>
                </a:solidFill>
                <a:latin typeface="Arial"/>
              </a:rPr>
              <a:t>Aprovechar rebote EU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71960" y="5202360"/>
            <a:ext cx="392040" cy="365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943600"/>
            <a:ext cx="851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eaeaea"/>
                </a:solidFill>
                <a:latin typeface="Arial"/>
              </a:rPr>
              <a:t>En el primer semestre han existido</a:t>
            </a:r>
            <a:r>
              <a:rPr b="1" lang="es-ES" sz="1400" spc="-1" strike="noStrike">
                <a:solidFill>
                  <a:srgbClr val="eaeaea"/>
                </a:solidFill>
                <a:latin typeface="Arial"/>
              </a:rPr>
              <a:t> beneficios </a:t>
            </a:r>
            <a:r>
              <a:rPr b="1" lang="es-MX" sz="1400" spc="-1" strike="noStrike">
                <a:solidFill>
                  <a:srgbClr val="eaeaea"/>
                </a:solidFill>
                <a:latin typeface="Arial"/>
              </a:rPr>
              <a:t>concretos </a:t>
            </a:r>
            <a:r>
              <a:rPr b="1" lang="es-ES" sz="1400" spc="-1" strike="noStrike">
                <a:solidFill>
                  <a:srgbClr val="eaeaea"/>
                </a:solidFill>
                <a:latin typeface="Arial"/>
              </a:rPr>
              <a:t>de la Integración  Monetaria</a:t>
            </a:r>
            <a:r>
              <a:rPr b="1" lang="es-MX" sz="1400" spc="-1" strike="noStrike">
                <a:solidFill>
                  <a:srgbClr val="eaeaea"/>
                </a:solidFill>
                <a:latin typeface="Arial"/>
              </a:rPr>
              <a:t>, en particular estabilidad de la moneda y reducción de tasas de interés. </a:t>
            </a:r>
            <a:r>
              <a:rPr b="1" lang="es-ES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eaeaea"/>
                </a:solidFill>
                <a:latin typeface="Arial"/>
              </a:rPr>
              <a:t>En el futuro, la generación de empleos provendrá de los esfuerzos de integración comercial del país, renovada inversión pública y prrivada y el aprovechamiento de la recuperación en el crecimiento de EU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1905120"/>
            <a:ext cx="6019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0"/>
            <a:ext cx="86360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Beneficios Integración Monetaria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2971800"/>
            <a:ext cx="3276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9718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2666880"/>
            <a:ext cx="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9718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2590920"/>
            <a:ext cx="0" cy="304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2895480"/>
            <a:ext cx="76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2895480"/>
            <a:ext cx="0" cy="381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27432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65680" y="380880"/>
            <a:ext cx="5965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es-ES_tradnl" sz="3200" spc="-1" strike="noStrike">
                <a:solidFill>
                  <a:srgbClr val="ebd189"/>
                </a:solidFill>
                <a:latin typeface="Century Gothic"/>
              </a:rPr>
              <a:t>Inflación se ha estabilizad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03240" y="1143000"/>
            <a:ext cx="87742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14240" y="193680"/>
            <a:ext cx="8934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4160" indent="-2541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es-ES_tradnl" sz="3200" spc="-1" strike="noStrike">
                <a:solidFill>
                  <a:srgbClr val="ebd189"/>
                </a:solidFill>
                <a:latin typeface="Century Gothic"/>
              </a:rPr>
              <a:t>Sectores Transables sustentan crecimiento económic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63680" y="990720"/>
            <a:ext cx="7635960" cy="58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04920" y="920880"/>
          <a:ext cx="8867520" cy="59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20880"/>
                    <a:ext cx="886752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334960" y="1600200"/>
            <a:ext cx="337896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ES" sz="2000" spc="-1" strike="noStrike">
                <a:solidFill>
                  <a:srgbClr val="ebd189"/>
                </a:solidFill>
                <a:latin typeface="Arial"/>
              </a:rPr>
              <a:t>Tasa Crecimiento anu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MX" sz="2000" spc="-1" strike="noStrike">
                <a:solidFill>
                  <a:srgbClr val="ebd189"/>
                </a:solidFill>
                <a:latin typeface="Arial"/>
              </a:rPr>
              <a:t>Agoto 2001 = 7%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660240"/>
            <a:ext cx="84049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es-ES_tradnl" sz="3200" spc="-1" strike="noStrike">
                <a:solidFill>
                  <a:srgbClr val="ebd189"/>
                </a:solidFill>
                <a:latin typeface="Century Gothic"/>
              </a:rPr>
              <a:t>Evolución de los depósitos totales del S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072160" y="304920"/>
            <a:ext cx="4741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ES_tradnl" sz="2400" spc="-1" strike="noStrike">
                <a:solidFill>
                  <a:srgbClr val="ebd189"/>
                </a:solidFill>
                <a:latin typeface="Century Gothic"/>
              </a:rPr>
              <a:t>EXPORTACIONES SIN CAFÉ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ES_tradnl" sz="2400" spc="-1" strike="noStrike">
                <a:solidFill>
                  <a:srgbClr val="ebd189"/>
                </a:solidFill>
                <a:latin typeface="Century Gothic"/>
              </a:rPr>
              <a:t>ACUMULADAS A JUL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ES_tradnl" sz="2000" spc="-1" strike="noStrike">
                <a:solidFill>
                  <a:srgbClr val="ebd189"/>
                </a:solidFill>
                <a:latin typeface="Century Gothic"/>
              </a:rPr>
              <a:t>Millones de dólar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46640" y="914400"/>
            <a:ext cx="2966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ES_tradnl" sz="1800" spc="-1" strike="noStrike">
                <a:solidFill>
                  <a:srgbClr val="ebd189"/>
                </a:solidFill>
                <a:latin typeface="Times New Roman"/>
              </a:rPr>
              <a:t>Tasa crecimiento anu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ES_tradnl" sz="1800" spc="-1" strike="noStrike">
                <a:solidFill>
                  <a:srgbClr val="ebd189"/>
                </a:solidFill>
                <a:latin typeface="Times New Roman"/>
              </a:rPr>
              <a:t>Julio 2001:   6.9%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1676520"/>
            <a:ext cx="739152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00200" y="1905120"/>
          <a:ext cx="7162920" cy="46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7162920" cy="46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836080" y="304920"/>
            <a:ext cx="39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ES_tradnl" sz="2400" spc="-1" strike="noStrike">
                <a:solidFill>
                  <a:srgbClr val="ebd189"/>
                </a:solidFill>
                <a:latin typeface="Century Gothic"/>
              </a:rPr>
              <a:t>REMESAS FAMILIA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ES_tradnl" sz="2000" spc="-1" strike="noStrike">
                <a:solidFill>
                  <a:srgbClr val="ebd189"/>
                </a:solidFill>
                <a:latin typeface="Century Gothic"/>
              </a:rPr>
              <a:t>Enero- Julio de cada añ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ES_tradnl" sz="2000" spc="-1" strike="noStrike">
                <a:solidFill>
                  <a:srgbClr val="ebd189"/>
                </a:solidFill>
                <a:latin typeface="Century Gothic"/>
              </a:rPr>
              <a:t>Millones de dólar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13320" y="474840"/>
            <a:ext cx="2966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ES_tradnl" sz="1800" spc="-1" strike="noStrike">
                <a:solidFill>
                  <a:srgbClr val="ebd189"/>
                </a:solidFill>
                <a:latin typeface="Times New Roman"/>
              </a:rPr>
              <a:t>Tasa crecimiento anu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ES_tradnl" sz="1800" spc="-1" strike="noStrike">
                <a:solidFill>
                  <a:srgbClr val="ebd189"/>
                </a:solidFill>
                <a:latin typeface="Times New Roman"/>
              </a:rPr>
              <a:t>Julio 2001:   11.8%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1523880"/>
            <a:ext cx="8305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914400" y="1676520"/>
          <a:ext cx="8067600" cy="47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806760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228600"/>
            <a:ext cx="7467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4160" indent="-25416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ES" sz="2400" spc="-1" strike="noStrike">
                <a:solidFill>
                  <a:srgbClr val="ebd189"/>
                </a:solidFill>
                <a:latin typeface="Arial"/>
              </a:rPr>
              <a:t>INTERCAMBIO COMERCIAL DE EL SALVAD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54160" indent="-254160" algn="ctr">
              <a:lnSpc>
                <a:spcPct val="80000"/>
              </a:lnSpc>
              <a:spcBef>
                <a:spcPts val="123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ES" sz="1800" spc="-1" strike="noStrike">
                <a:solidFill>
                  <a:srgbClr val="ebd189"/>
                </a:solidFill>
                <a:latin typeface="Arial"/>
              </a:rPr>
              <a:t>Millones de dólares y tasa de crecimiento anu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909720" y="1600200"/>
          <a:ext cx="854208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600200"/>
                    <a:ext cx="854208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951000" y="1371600"/>
            <a:ext cx="2499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ES" sz="2000" spc="-1" strike="noStrike">
                <a:solidFill>
                  <a:srgbClr val="ebd189"/>
                </a:solidFill>
                <a:latin typeface="Arial"/>
              </a:rPr>
              <a:t>ENERO- JU</a:t>
            </a:r>
            <a:r>
              <a:rPr b="1" lang="es-MX" sz="2000" spc="-1" strike="noStrike">
                <a:solidFill>
                  <a:srgbClr val="ebd189"/>
                </a:solidFill>
                <a:latin typeface="Arial"/>
              </a:rPr>
              <a:t>L</a:t>
            </a:r>
            <a:r>
              <a:rPr b="1" lang="es-ES" sz="2000" spc="-1" strike="noStrike">
                <a:solidFill>
                  <a:srgbClr val="ebd189"/>
                </a:solidFill>
                <a:latin typeface="Arial"/>
              </a:rPr>
              <a:t>I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2952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79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bd189"/>
                </a:solidFill>
                <a:latin typeface="Arial Narrow"/>
              </a:rPr>
              <a:t>FACTORES QUE HAN AFECTADO EL DESEMPEÑ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79000"/>
              </a:lnSpc>
              <a:spcBef>
                <a:spcPts val="1239"/>
              </a:spcBef>
              <a:buClr>
                <a:srgbClr val="f0532e"/>
              </a:buClr>
              <a:buSzPct val="11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Narrow"/>
              </a:rPr>
              <a:t>Se reduce el crecimiento mundi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79000"/>
              </a:lnSpc>
              <a:spcBef>
                <a:spcPts val="1239"/>
              </a:spcBef>
              <a:buClr>
                <a:srgbClr val="f0532e"/>
              </a:buClr>
              <a:buSzPct val="11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Narrow"/>
              </a:rPr>
              <a:t>Las importaciones de Estados Unidos decrecen a may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79000"/>
              </a:lnSpc>
              <a:spcBef>
                <a:spcPts val="1239"/>
              </a:spcBef>
              <a:buClr>
                <a:srgbClr val="f0532e"/>
              </a:buClr>
              <a:buSzPct val="11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Narrow"/>
              </a:rPr>
              <a:t>Se prevé baja fuerte del comercio mundi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79000"/>
              </a:lnSpc>
              <a:spcBef>
                <a:spcPts val="1239"/>
              </a:spcBef>
              <a:buClr>
                <a:srgbClr val="f0532e"/>
              </a:buClr>
              <a:buSzPct val="11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Narrow"/>
              </a:rPr>
              <a:t>El resto de Centro América tiende a crecer menos y muestra una reducción de la demanda de bienes importados (-7.7% a marzo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79000"/>
              </a:lnSpc>
              <a:spcBef>
                <a:spcPts val="1239"/>
              </a:spcBef>
              <a:buClr>
                <a:srgbClr val="f0532e"/>
              </a:buClr>
              <a:buSzPct val="11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Narrow"/>
              </a:rPr>
              <a:t>Precios de bienes primarios podrían reducirs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79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bd189"/>
                </a:solidFill>
                <a:latin typeface="Arial Narrow"/>
              </a:rPr>
              <a:t>EXPECTATIVAS SEGUNDO SEMESTRE y 200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79000"/>
              </a:lnSpc>
              <a:spcBef>
                <a:spcPts val="1239"/>
              </a:spcBef>
              <a:buClr>
                <a:srgbClr val="f0532e"/>
              </a:buClr>
              <a:buSzPct val="11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Narrow"/>
              </a:rPr>
              <a:t>Reversión de la coyuntura extern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79000"/>
              </a:lnSpc>
              <a:spcBef>
                <a:spcPts val="1239"/>
              </a:spcBef>
              <a:buClr>
                <a:srgbClr val="f0532e"/>
              </a:buClr>
              <a:buSzPct val="11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Narrow"/>
              </a:rPr>
              <a:t>Nueva reducción de tasas de interés en Estados Unid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79000"/>
              </a:lnSpc>
              <a:spcBef>
                <a:spcPts val="1239"/>
              </a:spcBef>
              <a:buClr>
                <a:srgbClr val="f0532e"/>
              </a:buClr>
              <a:buSzPct val="11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Narrow"/>
              </a:rPr>
              <a:t>Devolución de impuestos en EU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79000"/>
              </a:lnSpc>
              <a:spcBef>
                <a:spcPts val="1239"/>
              </a:spcBef>
              <a:buClr>
                <a:srgbClr val="f0532e"/>
              </a:buClr>
              <a:buSzPct val="11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Narrow"/>
              </a:rPr>
              <a:t>Consolidación TLC Méxi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79000"/>
              </a:lnSpc>
              <a:spcBef>
                <a:spcPts val="1239"/>
              </a:spcBef>
              <a:buClr>
                <a:srgbClr val="f0532e"/>
              </a:buClr>
              <a:buSzPct val="11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Narrow"/>
              </a:rPr>
              <a:t>Entrará en vigencia TLC con República Dominican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9525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2800" spc="-1" strike="noStrike">
                <a:solidFill>
                  <a:srgbClr val="ebd189"/>
                </a:solidFill>
                <a:latin typeface="Arial"/>
              </a:rPr>
              <a:t>ENTORNO INTERN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219320" y="1447920"/>
          <a:ext cx="8305560" cy="424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8305560" cy="42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831960"/>
            <a:ext cx="83055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9988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bd189"/>
                </a:solidFill>
                <a:latin typeface="Arial"/>
              </a:rPr>
              <a:t>Durante los 90’s El Salvador implementa profundas reformas económica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8760" y="2286000"/>
            <a:ext cx="924876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6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eaeaea"/>
                </a:solidFill>
                <a:latin typeface="Arial"/>
              </a:rPr>
              <a:t>Los elementos claves del programa incluyeron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99480" indent="-325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aeaea"/>
                </a:solidFill>
                <a:latin typeface="Arial"/>
              </a:rPr>
              <a:t>Manejo fiscal prudente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99480" indent="-325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aeaea"/>
                </a:solidFill>
                <a:latin typeface="Arial"/>
              </a:rPr>
              <a:t>Disciplina monetaria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99480" indent="-325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aeaea"/>
                </a:solidFill>
                <a:latin typeface="Arial"/>
              </a:rPr>
              <a:t>Conjunto de reformas orientadas por el mercado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eaeaea"/>
                </a:solidFill>
                <a:latin typeface="Arial"/>
              </a:rPr>
              <a:t>Diez años después El Salvador se beneficia de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99480" indent="-325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aeaea"/>
                </a:solidFill>
                <a:latin typeface="Arial"/>
              </a:rPr>
              <a:t>Una economía más diversificada en sus exportacion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99480" indent="-325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aeaea"/>
                </a:solidFill>
                <a:latin typeface="Arial"/>
              </a:rPr>
              <a:t>Sólida posición de balanza de pagos, ayudada por remesa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99480" indent="-325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aeaea"/>
                </a:solidFill>
                <a:latin typeface="Arial"/>
              </a:rPr>
              <a:t>Bajo nivel de endeudamiento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99480" indent="-325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aeaea"/>
                </a:solidFill>
                <a:latin typeface="Arial"/>
              </a:rPr>
              <a:t>Una calificación de grado de inversión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600200"/>
            <a:ext cx="92487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aeaea"/>
                </a:solidFill>
                <a:latin typeface="Arial"/>
              </a:rPr>
              <a:t>El programa de reformas se orientó a crear condiciones para alcanzar el crecimiento sostenido, después de una década de atraso económic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3716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a desaceleración de EU y los precios bajos del café impactarán las exportaciones y actividad económica de El Salvador durante el 2001. Sin embargo, se ha mantenido un comportamiento favorable del sector exportador no tradicio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os esfuerzos de reconstrucción darán un impulso a la actividad económica, en particular en el último semestre del añ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ts val="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as perspectivas de EU para el 2002 indican un rebote en la actividad económica de ese país. Esto favorecerá a los países como México y Centroamérica que tienen una relación comercial estrecha con ese paí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El país estará bien posicionado para aprovechar el ciclo de recuperación económica de EU, México y Centroaméric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ts val="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1523880"/>
            <a:ext cx="9448920" cy="4559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bd18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d189"/>
                </a:solidFill>
                <a:latin typeface="Times New Roman"/>
              </a:rPr>
              <a:t>Crecimiento económico sostenido apoyado en el aumento del ahorro y la invers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ebd1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d189"/>
                </a:solidFill>
                <a:latin typeface="Times New Roman"/>
              </a:rPr>
              <a:t>En la generación de un ambiente de seguridad ciudadana que restablezca la confianza de la ciudadanía y los inversionistas nacionales y extranjer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bd1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d189"/>
                </a:solidFill>
                <a:latin typeface="Times New Roman"/>
              </a:rPr>
              <a:t>En fortalecer el capital humano a través de la inversión en educación, la masificación de computadoras y acceso de interne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bd1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d189"/>
                </a:solidFill>
                <a:latin typeface="Times New Roman"/>
              </a:rPr>
              <a:t>En la búsqueda de la unificación del país en un solo espacio geográfico, así como lograr que se integre al resto de Centroamérica y al mun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2200" y="730080"/>
            <a:ext cx="56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ebd189"/>
                </a:solidFill>
                <a:latin typeface="Arial"/>
              </a:rPr>
              <a:t>Retos para el futuro: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189"/>
                </a:solidFill>
                <a:latin typeface="Arial"/>
              </a:rPr>
              <a:t>Reformas de mercado incluyeron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230040" indent="-230040">
              <a:spcBef>
                <a:spcPts val="624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eaeaea"/>
                </a:solidFill>
                <a:latin typeface="Arial"/>
              </a:rPr>
              <a:t>Desregulación financiera y privatización de la banca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230040" indent="-230040">
              <a:spcBef>
                <a:spcPts val="624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eaeaea"/>
                </a:solidFill>
                <a:latin typeface="Arial"/>
              </a:rPr>
              <a:t>Liberalización comercial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230040" indent="-230040">
              <a:spcBef>
                <a:spcPts val="624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eaeaea"/>
                </a:solidFill>
                <a:latin typeface="Arial"/>
              </a:rPr>
              <a:t>Nueva Ley Orgánica del Banco Central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230040" indent="-230040">
              <a:spcBef>
                <a:spcPts val="624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eaeaea"/>
                </a:solidFill>
                <a:latin typeface="Arial"/>
              </a:rPr>
              <a:t>Programas de reducción de la pobreza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230040" indent="-230040">
              <a:spcBef>
                <a:spcPts val="624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eaeaea"/>
                </a:solidFill>
                <a:latin typeface="Arial"/>
              </a:rPr>
              <a:t>Privatización de empresas estatales (electricidad, telecomunicaciones y otras)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230040" indent="-230040">
              <a:spcBef>
                <a:spcPts val="624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eaeaea"/>
                </a:solidFill>
                <a:latin typeface="Arial"/>
              </a:rPr>
              <a:t>Reforma del Sistema de Pensiones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3760" y="0"/>
            <a:ext cx="8390520" cy="1374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ebd189"/>
                </a:solidFill>
                <a:latin typeface="Times New Roman"/>
              </a:rPr>
              <a:t>FUNDAMENTOS ECONÓMICOS </a:t>
            </a:r>
            <a:endParaRPr b="0" lang="en-US" sz="4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ebd189"/>
                </a:solidFill>
                <a:latin typeface="Times New Roman"/>
              </a:rPr>
              <a:t>Crecimiento del PIB real</a:t>
            </a:r>
            <a:endParaRPr b="0" lang="en-US" sz="4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95280"/>
            <a:ext cx="9372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508040"/>
          <a:ext cx="838188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8040"/>
                    <a:ext cx="838188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525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54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ebd189"/>
                </a:solidFill>
                <a:latin typeface="Times New Roman"/>
              </a:rPr>
              <a:t>FUNDAMENTOS ECONÓMICOS </a:t>
            </a:r>
            <a:br>
              <a:rPr sz="4200"/>
            </a:br>
            <a:r>
              <a:rPr b="1" lang="es-ES_tradnl" sz="3800" spc="-1" strike="noStrike">
                <a:solidFill>
                  <a:srgbClr val="ebd189"/>
                </a:solidFill>
                <a:latin typeface="Times New Roman"/>
              </a:rPr>
              <a:t>Crecimiento de la demanda interna y externa</a:t>
            </a:r>
            <a:endParaRPr b="0" lang="en-US" sz="3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523880"/>
            <a:ext cx="9372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55520" y="1751040"/>
          <a:ext cx="7936200" cy="51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1751040"/>
                    <a:ext cx="793620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228600"/>
            <a:ext cx="9525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ebd189"/>
                </a:solidFill>
                <a:latin typeface="Times New Roman"/>
              </a:rPr>
              <a:t>FUNDAMENTOS ECONÓMICOS </a:t>
            </a:r>
            <a:endParaRPr b="0" lang="en-US" sz="4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ebd189"/>
                </a:solidFill>
                <a:latin typeface="Times New Roman"/>
              </a:rPr>
              <a:t>Consumo e Inversión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523880"/>
            <a:ext cx="9372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1593720"/>
          <a:ext cx="8077320" cy="526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93720"/>
                    <a:ext cx="80773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228600"/>
            <a:ext cx="9525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ebd189"/>
                </a:solidFill>
                <a:latin typeface="Times New Roman"/>
              </a:rPr>
              <a:t>FUNDAMENTOS ECONÓMICOS </a:t>
            </a:r>
            <a:endParaRPr b="0" lang="en-US" sz="4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ebd189"/>
                </a:solidFill>
                <a:latin typeface="Times New Roman"/>
              </a:rPr>
              <a:t>Consumo e Inversión Pública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523880"/>
            <a:ext cx="9372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90720" y="1676520"/>
          <a:ext cx="7945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945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228600"/>
            <a:ext cx="9525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ebd189"/>
                </a:solidFill>
                <a:latin typeface="Times New Roman"/>
              </a:rPr>
              <a:t>FUNDAMENTOS ECONÓMICOS </a:t>
            </a:r>
            <a:endParaRPr b="0" lang="en-US" sz="4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ebd189"/>
                </a:solidFill>
                <a:latin typeface="Times New Roman"/>
              </a:rPr>
              <a:t>Consumo e Inversión Privada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447920"/>
            <a:ext cx="9372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1523880"/>
          <a:ext cx="815364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81536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2:45:27Z</dcterms:created>
  <dc:creator>Cecilia Feliu C.</dc:creator>
  <dc:description/>
  <dc:language>en-US</dc:language>
  <cp:lastModifiedBy>PECARLOS</cp:lastModifiedBy>
  <cp:lastPrinted>2001-01-09T05:29:55Z</cp:lastPrinted>
  <dcterms:modified xsi:type="dcterms:W3CDTF">2001-09-26T20:02:08Z</dcterms:modified>
  <cp:revision>194</cp:revision>
  <dc:subject/>
  <dc:title>Análisis de la Coyuntura Económica</dc:title>
</cp:coreProperties>
</file>